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DFC-2EFA-455D-9B68-87B44CE3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018-8A0D-49DF-AF7D-39B63C79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737-C081-412C-AB65-8004356F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D09-F223-4BA1-84D6-8831A0AE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4622-8578-46E5-A0AB-713B9EFF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7D92-71D8-44DC-98C7-565831FF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F4C8-7664-41B4-92C9-8A16291D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A076-2610-4349-98DE-EBA8B2EF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9C7B-DDCB-4860-ABC0-8E8623C4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92E9-0FB0-4C29-9FFE-A851452D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167E-BF34-4F5B-AC29-2E6A05EC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F72-BDA7-4C65-97FB-0E76098F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F98F-271E-41D8-9EAF-7510A935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BFD9-06C3-461B-9A99-6573C1F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7302-F23F-4487-92C0-253D325A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205F-BC42-441B-A9DF-EF0550B2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743B-A1EB-4E27-88AA-9B21F10E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721-7A65-47B2-97C0-C1BB24ED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8F4-EB9E-45D7-A8AF-FBC129E8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5A1-1F2E-461D-B214-1BB37DA5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B38-B583-4BE1-870F-CA2AFEBC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AC9-8656-4499-B929-E3E5C4C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68B-929A-4C65-A6F4-3BB0488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568-43C1-4D1E-8E11-0117D98F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DB3D-36D7-4017-BAAA-99AEFF938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8784-0804-434F-A4B8-70BD0442B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678168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Till There Was No Remedy</a:t>
            </a:r>
            <a:br>
              <a:rPr sz="48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ivided Kingdom – 2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rter 7, Lesson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ges 131-1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Kings 20; Isa. 38-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The Last Les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ssyrians Have Destroyed Everything In Their Path Toward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Judah’s King, Hezekiah, Has Leaned Upon The L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5,000 Assyrians S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nacherib is slain by two of his 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arhaddon, another son, takes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thing room for Judah for a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Sickness of Hezekia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Sickness and sentence of death 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Kgs. 20: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supplication and extension of 15 yrs. 2 Kgs.20:2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gn of the Sundial. 8-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nful Stewardship: Showing the Babylonians his treasures – 12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 Interesting Prophec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usalem will be “rebuilt” – Isa.44:24-45: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cation that it would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, by Isaiah, even names the king that God would use to accomplish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 years before it came to p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before there was a “Cyru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God is an Awesome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ath of Hezekia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an honorable man – 2 Kgs.20:20-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later generations would suffer because of Hezekiah’s mis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bylonians would come back and take the Judeans captive to Baby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ss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you do if you knew you had only 15 years of life? 10? 5? 1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ight our children, grandchildren suffer if we are not on guard for the enemy of our souls to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20:25:36Z</dcterms:created>
  <dc:creator>Terry W. Benton</dc:creator>
  <dc:description/>
  <dc:language>en-US</dc:language>
  <cp:lastModifiedBy>Frank D Vines</cp:lastModifiedBy>
  <dcterms:modified xsi:type="dcterms:W3CDTF">2006-02-22T05:17:55Z</dcterms:modified>
  <cp:revision>3</cp:revision>
  <dc:subject/>
  <dc:title>Till There Was No Remedy Divided Kingdom – 2 </dc:title>
</cp:coreProperties>
</file>